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EDB-87B4-48E0-B874-EA42BE70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21D-D83D-45FF-9449-26488BF2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870-B09E-4322-A83C-54777B19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327-9CFD-4E3F-AB16-B6F40214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D0C3-1822-4E37-A1DB-08FE785A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0A3A-E6F8-4F83-91CE-FB9C222E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8C42-7915-41E7-9DA3-2EA2526B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7BD2-F823-4FD7-AD1B-FC636F1D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9A8D-4344-4A3A-A8BC-B41F750D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6F3E-50B9-4C95-9067-03D9FDAE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B8ED-F93F-4CBD-9D38-29C32305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356-8253-49F8-A20D-F901B221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4E1-EF42-4208-B702-61000C3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28BB-CA14-4209-B966-7584680C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9679-8664-4827-8701-CB20AD58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A251-A8AD-4C91-98ED-818FA1C2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D2FB-9820-4C38-BC67-BD460450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4B5-430E-486B-A2B9-1042F248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9B6-EFF8-4099-A796-61CAAB13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830-E870-4C2C-99F4-5209E29D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CB1-4861-43D6-AAF9-3B83CCD6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594-6090-40EE-90CA-6D95018A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5CE-68BF-4E5D-B1E1-9FC2BBD3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B10-A60F-4D52-9987-D2FDF754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F2BA-741D-4070-980A-89E661D788F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9961-6BB0-4447-8674-3A472A56FC4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litics.people.com.cn/GB/8198/68298/68304/4611641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201326592&amp;z=0&amp;flag=1&amp;pn=1&amp;cl=2&amp;lm=-1&amp;cm=1&amp;sc=0&amp;rn=16&amp;tn=baiduimagedetail&amp;word=&#24378;&#28193;&#37329;&#27801;&#27743;&amp;in=2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image.baidu.com/i?ct=201326592&amp;z=0&amp;flag=1&amp;pn=4&amp;cl=2&amp;lm=-1&amp;cm=1&amp;sc=0&amp;rn=16&amp;tn=baiduimagedetail&amp;word=&#24378;&#28193;&#22823;&#28193;&#27827;&amp;in=5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201326592&amp;z=0&amp;flag=1&amp;pn=0&amp;cl=2&amp;lm=-1&amp;cm=1&amp;sc=0&amp;rn=16&amp;tn=baiduimagedetail&amp;word=&#39134;&#22842;&#21346;&#23450;&#26725;&amp;in=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.baidu.com/i?ct=201326592&amp;z=0&amp;flag=1&amp;pn=3&amp;cl=2&amp;lm=-1&amp;cm=1&amp;sc=0&amp;rn=16&amp;tn=baiduimagedetail&amp;word=&#39134;&#22842;&#21346;&#23450;&#26725;&amp;in=4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201326592&amp;z=0&amp;flag=1&amp;pn=25&amp;cl=2&amp;lm=-1&amp;cm=1&amp;sc=0&amp;rn=16&amp;tn=baiduimagedetail&amp;word=&#32763;&#36234;&#22841;&#37329;&#23665;&amp;in=26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201326592&amp;z=0&amp;flag=1&amp;pn=0&amp;cl=2&amp;lm=-1&amp;cm=1&amp;sc=0&amp;rn=16&amp;tn=baiduimagedetail&amp;word=&#36807;&#33609;&#22320;&amp;in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.baidu.com/i?ct=201326592&amp;z=0&amp;flag=1&amp;pn=26&amp;cl=2&amp;lm=-1&amp;cm=1&amp;sc=0&amp;rn=16&amp;tn=baiduimagedetail&amp;word=&#36807;&#33609;&#22320;&amp;in=27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image.baidu.com/i?ct=201326592&amp;z=0&amp;flag=1&amp;pn=33&amp;cl=2&amp;lm=-1&amp;cm=1&amp;sc=0&amp;rn=16&amp;tn=baiduimagedetail&amp;word=&#36807;&#33609;&#22320;&amp;in=34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image.baidu.com/i?ct=201326592&amp;z=0&amp;flag=1&amp;pn=86&amp;cl=2&amp;lm=-1&amp;cm=1&amp;sc=0&amp;rn=16&amp;tn=baiduimagedetail&amp;word=&#36807;&#33609;&#22320;&amp;in=87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litics.people.com.cn/GB/61650/4776357.html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politics.people.com.cn/GB/61650/4776357.html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litics.people.com.cn/GB/8198/68298/68303/4661664.html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politics.people.com.cn/GB/8198/68298/68303/4661664.html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litics.people.com.cn/GB/8198/68298/68303/4661349.html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litics.people.com.cn/GB/8198/68298/68588/4646592.html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politics.people.com.cn/GB/8198/68298/68588/4646591.html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politics.people.com.cn/GB/8198/68298/68588/4646589.html" TargetMode="External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litics.people.com.cn/GB/8198/68298/68588/4646588.html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politics.people.com.cn/GB/8198/68298/68588/4646587.html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litics.people.com.cn/GB/8198/68298/68304/4611616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litics.people.com.cn/GB/8198/68298/68304/4611637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1628640"/>
            <a:ext cx="882000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长征精神在我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47242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i="1" lang="en-US" sz="4800" spc="-1" strike="noStrike">
                <a:solidFill>
                  <a:srgbClr val="3399ff"/>
                </a:solidFill>
                <a:latin typeface="Times New Roman"/>
              </a:rPr>
              <a:t>--------</a:t>
            </a:r>
            <a:r>
              <a:rPr b="1" i="1" lang="zh-CN" sz="4800" spc="-1" strike="noStrike">
                <a:solidFill>
                  <a:srgbClr val="3399ff"/>
                </a:solidFill>
                <a:latin typeface="Times New Roman"/>
              </a:rPr>
              <a:t>红军长征</a:t>
            </a:r>
            <a:r>
              <a:rPr b="1" i="1" lang="en-US" sz="4800" spc="-1" strike="noStrike">
                <a:solidFill>
                  <a:srgbClr val="3399ff"/>
                </a:solidFill>
                <a:latin typeface="Times New Roman"/>
              </a:rPr>
              <a:t>70</a:t>
            </a:r>
            <a:r>
              <a:rPr b="1" i="1" lang="zh-CN" sz="4800" spc="-1" strike="noStrike">
                <a:solidFill>
                  <a:srgbClr val="3399ff"/>
                </a:solidFill>
                <a:latin typeface="Times New Roman"/>
              </a:rPr>
              <a:t>周年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260280"/>
            <a:ext cx="6480360" cy="496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564000" y="4437000"/>
            <a:ext cx="55800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强渡乌江天险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20640"/>
            <a:ext cx="85406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月初，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抢渡金沙江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摆脱了几十万国民党军的围追堵截，取得了战略转移中具有决定意义的胜利。由于执行了正确的民族政策，红军顺利通过大凉山彝族区。接着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强渡大渡河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飞夺泸定桥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翻越终年积雪的夹金山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月中旬，与红四方面军在懋功会师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0"/>
            <a:ext cx="4838400" cy="347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211640" y="836640"/>
            <a:ext cx="341460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强渡金沙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9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3294000"/>
            <a:ext cx="6624720" cy="356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84360" y="4005360"/>
            <a:ext cx="2908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强渡大渡河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2975040"/>
            <a:ext cx="5140440" cy="3882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0"/>
            <a:ext cx="4573440" cy="320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68360" y="3860640"/>
            <a:ext cx="290988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飞夺泸定桥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960" y="1197000"/>
            <a:ext cx="5000400" cy="439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788000" y="4221000"/>
            <a:ext cx="3270240" cy="14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翻越夹金山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7280" y="907920"/>
            <a:ext cx="72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红一、四方面军会师后，红军以北上建立川陕甘根据地为战略方针，中共中央决定将两个方面军混合编为左、右两路军过草地北上。中共中央随右路军跨过草地，抵达班佑、巴西地区。 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4105440" cy="2548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59280" y="476280"/>
            <a:ext cx="3816360" cy="338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3573360"/>
            <a:ext cx="4465440" cy="328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2997360"/>
            <a:ext cx="4608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692280"/>
            <a:ext cx="8424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底，右路军一部在包座全歼国民党军第四十九师约五千余人，打开了向甘南前进的门户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张国焘率左路军到达阿坝地区后，拒绝执行中共中央的北上方针，并要挟中共中央和右路军南下。毛泽东等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日急率第一、第三军（后组成陕甘支队）继续北上，夺取腊子口，突破国民党军渭河封锁线，翻越六盘山，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日到达陕北吴起镇（今吴旗县城），先期结束了长征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日取得了直罗镇战役的胜利，为党中央和红军扎根在陕北奠定了基础。</a:t>
            </a:r>
            <a:br>
              <a:rPr sz="1800"/>
            </a:b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413000"/>
            <a:ext cx="8497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先后会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中国工农红军长征的胜利，是人类历史上的奇迹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整整两年中，红军长征转战十四个省，历经曲折，战胜了重重艰难险阻，保存和锻炼了革命的基干力量，将中国革命的大本营转移到了西北，为开展抗日战争和发展中国革命事业创造了条件。</a:t>
            </a:r>
            <a:br>
              <a:rPr sz="1800"/>
            </a:b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04640"/>
            <a:ext cx="4799160" cy="3583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46560" y="3141720"/>
            <a:ext cx="4897440" cy="3340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859280" y="907920"/>
            <a:ext cx="42847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两万五千里长征记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570960"/>
            <a:ext cx="9200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                   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长征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                            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毛泽东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红军不怕远征难，千山万水只等闲。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五岭逶迤腾细浪，乌蒙磅礴走泥丸。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金沙水拍云崖暖，大渡桥横铁索寒。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更喜岷山千里雪，三军过后尽开颜。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267160" cy="3046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00720" y="40464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中央红军长征第一桥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068640"/>
            <a:ext cx="5292720" cy="345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5580000" y="3789360"/>
            <a:ext cx="3267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红军长征第一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60280"/>
            <a:ext cx="7848360" cy="502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551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红军在云南留下的宣传标语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红军将士的豪气跃然纸上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从数字看长征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从中央红军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93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日离开江西瑞金开始战略转移，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936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月红军三大方面军在陕甘苏区胜利会师，长征共历时两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四路红军部队长征途中共转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省份，走遍了大半个中国。其中，中央红军经过了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多个少数民族聚居和杂居区，渡过的主要江河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条，翻越的主要大山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座，攻占县城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余座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长征中，红军平均每天行军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7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公里。在中央红军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68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的行军途中，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整天在打大决战，平均每天都有一次遭遇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为消灭长征中的红军，蒋介石调集了国民党中央军、粤军、湘军、桂军、黔军、滇军、川军、东北军、西北军、马家军及少数民族中反动头人武装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多支部队数十万大军，千方百计进行围追堵截。 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在中央红军的队伍中，共有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位女同志历经艰难险阻，胜利完成了长征，途中没有一人掉队，没有一人牺牲，可谓中国妇女运动史上的一个奇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长征途中，红军师以上干部的年龄绝大部分都在二、三十岁，红军将领的平均年龄仅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岁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95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中国人民解放军首次授衔时，在中将以上的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5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名将帅中，有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2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人参加过长征。以长征开始时计算他们的平均年龄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位元帅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6.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岁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位大将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1.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岁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位上将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5.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岁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5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位中将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3.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205000"/>
            <a:ext cx="2592360" cy="3252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68360" y="333360"/>
            <a:ext cx="3600360" cy="13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长征人物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537372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毛泽东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2133720"/>
            <a:ext cx="2538360" cy="3240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67280" y="5157720"/>
            <a:ext cx="201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朱德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84720" y="2133720"/>
            <a:ext cx="2772000" cy="316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516720" y="5229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周恩来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125360"/>
            <a:ext cx="2665440" cy="4104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48000" y="1197000"/>
            <a:ext cx="2592360" cy="388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372360" y="1052640"/>
            <a:ext cx="2771640" cy="403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5445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王稼祥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5157720"/>
            <a:ext cx="2519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刘伯承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551664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博古（秦邦宪）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2158920" cy="367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4360" y="530064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叶剑英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059280" y="765000"/>
            <a:ext cx="2649240" cy="3889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32000" y="5229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刘少奇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012000" y="1125360"/>
            <a:ext cx="2620800" cy="3464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12000" y="501336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林彪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2210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2944800" cy="389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55640" y="5300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彭德怀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87760" y="1052640"/>
            <a:ext cx="3397320" cy="3960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8000" y="5229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邓小平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00000" y="457200"/>
            <a:ext cx="3744000" cy="59432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沁园春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雪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936 2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北国风光，千里冰封，万里雪飘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望长城内外，惟余莽莽；大河上下，顿失滔滔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山舞银蛇，原驰蜡象，欲与天公试比高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须晴日，看红装素裹，分外妖娆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江山如此多娇，引无数英雄竟折腰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惜秦皇汉武，略输文采；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唐宗宋祖，稍逊风骚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一代天骄，成吉思汗，只识弯弓射大雕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俱往矣，数风流人物，还看今朝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00000" y="98100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红军正是凭借着如此坚定不移的信念走过了一路艰辛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踏遍了一路苦难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经历那寒暑冬夏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汇成了这最壮丽辉煌的史诗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无怪乎美国作家索尔兹伯里称长征为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前所未有的故事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"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漫漫国史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百年沧桑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世事变迁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耐人深思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27280" y="1341360"/>
            <a:ext cx="619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年后的今天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我们若用单纯的眼光看待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长征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这一军事行动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必然所获不多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其实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长征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带给我们的不仅是历史的回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更多的是深深的智慧和启迪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692280"/>
            <a:ext cx="18669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长征启迪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549360"/>
            <a:ext cx="864216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第一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毛主席教会我们的是战略上要能进能退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也要有转移风度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面对蒋介石的围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党中央毅然放弃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红都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的转移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然而事实证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共产党的转移决定是真确的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了这次转移才成就了后来新中国的辉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共产党因此成功了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现在有些人一味地前进前进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再前进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哪怕是进了死胡同也要硬闯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撞得头破血流誓不罢休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这又何苦呢我觉得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不论做什么事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都要能进能退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懂得适当后退的人才是聪明人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请明白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时后退并非失败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并非懦弱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而是谋略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后退一小步是为了前进一大步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!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0920" y="333360"/>
            <a:ext cx="889308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领导应该团结能团结起来的一切群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毛主席曾说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:"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没有一个人民的军队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便没有人民的一切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"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红军长征正是依靠广大工农群众支援而取得胜利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可见人民的力量是无穷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           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现代人中的佼佼者算是领导者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而领导者工作的妙处便在于善于凝集周围的基层群众同舟共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创造事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当然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"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水能载舟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亦能覆舟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"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个高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只会坐在宝座上发号施令的领导者必是失败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"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众叛亲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就是唯一的结果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新世纪已至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领导者应自我培养凝聚力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于大于小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都是当务之急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1125360"/>
            <a:ext cx="85327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三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建立事业需坚持不懈的品质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我们知道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长征胜利最基本原因之一是红军具有顽强的意志和毅力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这个道理很容易理解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万事贵在恒心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懂得坚持的人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获得成功的系数就很大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就如滴水穿石一样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最后的成功必然属于坚持着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11280" y="333360"/>
            <a:ext cx="8137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长征精神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的种种在新时代中已有了新含义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会带给我们不同凡响的思维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读史以明智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思考长征精神吧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!</a:t>
            </a:r>
            <a:br>
              <a:rPr sz="4400"/>
            </a:b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同学们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请用它来开创未来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请用它来证明实力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请用它来富强中华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请用它来发展这个蔚蓝色的星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让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长征精神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永远留在我们的心中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7572"/>
                </a:solidFill>
                <a:latin typeface="Arial"/>
              </a:rPr>
              <a:t>红军为什么长征 </a:t>
            </a:r>
            <a:r>
              <a:rPr b="1" i="1" lang="en-US" sz="6600" spc="-1" strike="noStrike">
                <a:solidFill>
                  <a:srgbClr val="007572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3360" y="270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93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93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间，中国工农红军主力从长江南北各苏区向陕甘革命根据地（亦称陕甘苏区）的战略转移。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620640"/>
            <a:ext cx="770544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935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月，由于王明“左”倾冒险主义的错误领导，以及敌强我弱，中央革命根据地（亦称中央苏区）第五次反“围剿”战争遭到失败，红军第一方面军（中央红军）主力开始长征，同时留下部分红军就地坚持游击战争。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月，中共中央和中央军委为了给中央红军战略转移探索道路，命令红六军团撤离湘赣苏区，到湘中发展游击战争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月，红六军团与红三军（后恢复红二军团番号）会合，并创建了湘鄂川苏区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1080" y="1181160"/>
            <a:ext cx="698508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508720" y="5157720"/>
            <a:ext cx="3635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遵义会议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71640" y="765000"/>
            <a:ext cx="76327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3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日，中共中央在遵义举行了政治局扩大会议，着重总结了第五次反“围剿”失败的经验教训，纠正了王明“左”倾冒险主义在军事上的错误，确立了以毛泽东为代表的中共中央的正确领导， 制定了红军尔后的战略方针， 从而在最危险的关头挽救了红军和中国共产党。 这次会议是中国共产党和工农红军历史上一个伟大的转折点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，组成了实际上以毛泽东为首，周恩来、王稼祥参加的三人军事指挥小组。他们以中共中央、中央军委的名义指挥红军的行动。</a:t>
            </a:r>
            <a:br>
              <a:rPr sz="1800"/>
            </a:b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692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遵义会议后，鉴于川敌布防严密，中央红军确定撤离遵义后，在川黔滇边和贵州省内迂回穿插。特别是在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四渡赤水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过程中，中央红军灵活机动地创造战机，运动作战，各个歼敌，以少胜多，从而变被动为主动。随后出敌不意，主力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南渡乌江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直逼贵阳，迅即西进，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476280"/>
            <a:ext cx="6264360" cy="489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95280" y="4221000"/>
            <a:ext cx="496872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四渡赤水出奇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33:32Z</dcterms:modified>
  <cp:revision>1</cp:revision>
  <dc:subject>主题班会课件(分28大类): http://shop62905894.taobao.com</dc:subject>
  <dc:title>主题班会课件(分28大类): http://shop62905894.taobao.com</dc:title>
</cp:coreProperties>
</file>